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applause.wav" ContentType="audio/x-wav"/>
  <Override PartName="/ppt/media/image8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7BE-422A-42EB-B7D7-A351BB75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79E-5766-44BB-8164-EE0ECED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290-1E4C-4611-9A79-4669F9C9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74D-23CB-4354-A189-2CF42C28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5E5-7957-480F-93B7-486E991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DC5-0932-4885-A06B-B817B418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5AA-2DB6-4376-BF57-C00EAD8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3BB-A978-4C89-BD05-75259D94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1C8-55BC-49CE-A912-7EC3B0A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0F4-27A0-4167-A431-48F7C47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88E-FAF0-44DE-847D-FC1F341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01F-6718-47A7-A9DA-EFC27C2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EFF-8B5E-410A-8C28-73A152B769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eorgian_Lane_Dining_Room_Table_And_Chair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380880" y="59436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Las Comidas De Elizabeth Glea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671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711360" y="495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Para el desayun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ContentSectionFileHandler"/>
          <p:cNvPicPr/>
          <p:nvPr/>
        </p:nvPicPr>
        <p:blipFill>
          <a:blip r:embed="rId2"/>
          <a:stretch/>
        </p:blipFill>
        <p:spPr>
          <a:xfrm>
            <a:off x="685800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93720" y="32767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n to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Waffles_with_Strawberries"/>
          <p:cNvPicPr/>
          <p:nvPr/>
        </p:nvPicPr>
        <p:blipFill>
          <a:blip r:embed="rId3"/>
          <a:stretch/>
        </p:blipFill>
        <p:spPr>
          <a:xfrm>
            <a:off x="3581280" y="11430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3683520" y="325116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Los gofres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cinnamonroll1"/>
          <p:cNvPicPr/>
          <p:nvPr/>
        </p:nvPicPr>
        <p:blipFill>
          <a:blip r:embed="rId4"/>
          <a:stretch/>
        </p:blipFill>
        <p:spPr>
          <a:xfrm>
            <a:off x="457200" y="114300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1676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90760" y="32907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stel de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special-k-red-berries-cereal-detail-prod"/>
          <p:cNvPicPr/>
          <p:nvPr/>
        </p:nvPicPr>
        <p:blipFill>
          <a:blip r:embed="rId5"/>
          <a:stretch/>
        </p:blipFill>
        <p:spPr>
          <a:xfrm>
            <a:off x="6477120" y="3733920"/>
            <a:ext cx="2666880" cy="2133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0"/>
          <p:cNvSpPr/>
          <p:nvPr/>
        </p:nvSpPr>
        <p:spPr>
          <a:xfrm>
            <a:off x="6627240" y="58420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cereal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orange-juice-hair-conditioner"/>
          <p:cNvPicPr/>
          <p:nvPr/>
        </p:nvPicPr>
        <p:blipFill>
          <a:blip r:embed="rId6"/>
          <a:stretch/>
        </p:blipFill>
        <p:spPr>
          <a:xfrm>
            <a:off x="3809880" y="3733920"/>
            <a:ext cx="200052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3"/>
          <p:cNvSpPr/>
          <p:nvPr/>
        </p:nvSpPr>
        <p:spPr>
          <a:xfrm>
            <a:off x="3576240" y="5842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699720" y="5778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60600" y="533520"/>
            <a:ext cx="79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Para el almuerz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2"/>
          <a:stretch/>
        </p:blipFill>
        <p:spPr>
          <a:xfrm>
            <a:off x="0" y="1752480"/>
            <a:ext cx="2459160" cy="183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-152280" y="358128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os macarrones con qu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3"/>
          <a:stretch/>
        </p:blipFill>
        <p:spPr>
          <a:xfrm>
            <a:off x="3265560" y="1787400"/>
            <a:ext cx="2739960" cy="182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906720" y="36241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4"/>
          <a:stretch/>
        </p:blipFill>
        <p:spPr>
          <a:xfrm>
            <a:off x="200160" y="4322880"/>
            <a:ext cx="2406600" cy="1601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253080" y="5911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ristina"/>
              </a:rPr>
              <a:t>Las papas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5"/>
          <a:stretch/>
        </p:blipFill>
        <p:spPr>
          <a:xfrm>
            <a:off x="6553080" y="1787400"/>
            <a:ext cx="2049480" cy="18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6629400" y="36133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"/>
          <p:cNvPicPr/>
          <p:nvPr/>
        </p:nvPicPr>
        <p:blipFill>
          <a:blip r:embed="rId6"/>
          <a:stretch/>
        </p:blipFill>
        <p:spPr>
          <a:xfrm>
            <a:off x="3265560" y="4336920"/>
            <a:ext cx="2739960" cy="1587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3727800" y="592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El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7"/>
          <a:stretch/>
        </p:blipFill>
        <p:spPr>
          <a:xfrm>
            <a:off x="6242040" y="4322880"/>
            <a:ext cx="2394000" cy="1589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6776640" y="5924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0280" y="6858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Para la cena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hicken-nuggets-512_370x278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60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11430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854640" y="31179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0107-taco-bell_vg"/>
          <p:cNvPicPr/>
          <p:nvPr/>
        </p:nvPicPr>
        <p:blipFill>
          <a:blip r:embed="rId3"/>
          <a:stretch/>
        </p:blipFill>
        <p:spPr>
          <a:xfrm>
            <a:off x="3276720" y="1523880"/>
            <a:ext cx="2124000" cy="161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3802680" y="31179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t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ultimate-spaghetti-ay-1875838-l"/>
          <p:cNvPicPr/>
          <p:nvPr/>
        </p:nvPicPr>
        <p:blipFill>
          <a:blip r:embed="rId4"/>
          <a:stretch/>
        </p:blipFill>
        <p:spPr>
          <a:xfrm>
            <a:off x="640080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0"/>
          <p:cNvSpPr/>
          <p:nvPr/>
        </p:nvSpPr>
        <p:spPr>
          <a:xfrm>
            <a:off x="5562360" y="31240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os espaguetis con s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de to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dinner-rolls"/>
          <p:cNvPicPr/>
          <p:nvPr/>
        </p:nvPicPr>
        <p:blipFill>
          <a:blip r:embed="rId5"/>
          <a:stretch/>
        </p:blipFill>
        <p:spPr>
          <a:xfrm>
            <a:off x="457200" y="4038480"/>
            <a:ext cx="2057400" cy="1873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146880" y="59436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rollo de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ANd9GcSIUG-FLVeYH09OHuP3ppIFiVenI5SQvJnK5eDo2Gs6D1ArVCgS66Be7lDf0w"/>
          <p:cNvPicPr/>
          <p:nvPr/>
        </p:nvPicPr>
        <p:blipFill>
          <a:blip r:embed="rId6"/>
          <a:stretch/>
        </p:blipFill>
        <p:spPr>
          <a:xfrm>
            <a:off x="3505320" y="403848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6"/>
          <p:cNvSpPr/>
          <p:nvPr/>
        </p:nvSpPr>
        <p:spPr>
          <a:xfrm>
            <a:off x="366624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8" descr="rice-recipe"/>
          <p:cNvPicPr/>
          <p:nvPr/>
        </p:nvPicPr>
        <p:blipFill>
          <a:blip r:embed="rId7"/>
          <a:stretch/>
        </p:blipFill>
        <p:spPr>
          <a:xfrm>
            <a:off x="6248520" y="4038480"/>
            <a:ext cx="2305080" cy="189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9"/>
          <p:cNvSpPr/>
          <p:nvPr/>
        </p:nvSpPr>
        <p:spPr>
          <a:xfrm>
            <a:off x="6934320" y="5943600"/>
            <a:ext cx="10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ANd9GcQ3jf2bIlBCo66n0Ahf4bt9XYsdwtTRtNW9_cV3CGJYLEcqpsRJFQ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07440" y="-144360"/>
            <a:ext cx="91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Script MT Bold"/>
              </a:rPr>
              <a:t>Para el postre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ice-cream-cone"/>
          <p:cNvPicPr/>
          <p:nvPr/>
        </p:nvPicPr>
        <p:blipFill>
          <a:blip r:embed="rId2"/>
          <a:stretch/>
        </p:blipFill>
        <p:spPr>
          <a:xfrm>
            <a:off x="457200" y="68580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97920" y="289260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Un helad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vai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chocolate-cake-sl-1110246-l"/>
          <p:cNvPicPr/>
          <p:nvPr/>
        </p:nvPicPr>
        <p:blipFill>
          <a:blip r:embed="rId3"/>
          <a:stretch/>
        </p:blipFill>
        <p:spPr>
          <a:xfrm>
            <a:off x="312408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2476800" y="292248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 torta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chip-cookies-ck-1031646-l"/>
          <p:cNvPicPr/>
          <p:nvPr/>
        </p:nvPicPr>
        <p:blipFill>
          <a:blip r:embed="rId4"/>
          <a:stretch/>
        </p:blipFill>
        <p:spPr>
          <a:xfrm>
            <a:off x="640080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7"/>
          <p:cNvSpPr/>
          <p:nvPr/>
        </p:nvSpPr>
        <p:spPr>
          <a:xfrm>
            <a:off x="5750640" y="2928960"/>
            <a:ext cx="36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gallet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hispas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thanksgiving-decor-pumpkin-pie-slice"/>
          <p:cNvPicPr/>
          <p:nvPr/>
        </p:nvPicPr>
        <p:blipFill>
          <a:blip r:embed="rId5"/>
          <a:stretch/>
        </p:blipFill>
        <p:spPr>
          <a:xfrm>
            <a:off x="30492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228240" y="5977080"/>
            <a:ext cx="21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pastel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3610080" y="2676600"/>
            <a:ext cx="19238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610080" y="2676600"/>
            <a:ext cx="19238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3681360" y="2733840"/>
            <a:ext cx="1781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8" descr="monthly_Fruit_club"/>
          <p:cNvPicPr/>
          <p:nvPr/>
        </p:nvPicPr>
        <p:blipFill>
          <a:blip r:embed="rId6"/>
          <a:stretch/>
        </p:blipFill>
        <p:spPr>
          <a:xfrm>
            <a:off x="3124080" y="3733920"/>
            <a:ext cx="2438640" cy="2265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9"/>
          <p:cNvSpPr/>
          <p:nvPr/>
        </p:nvSpPr>
        <p:spPr>
          <a:xfrm>
            <a:off x="3380760" y="59770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f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1" descr="Vanilla_Milkshake1"/>
          <p:cNvPicPr/>
          <p:nvPr/>
        </p:nvPicPr>
        <p:blipFill>
          <a:blip r:embed="rId7"/>
          <a:stretch/>
        </p:blipFill>
        <p:spPr>
          <a:xfrm>
            <a:off x="6553080" y="3809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6746400" y="609588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ba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8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1:02Z</dcterms:created>
  <dc:creator>gleasoneli</dc:creator>
  <dc:description/>
  <dc:language>en-US</dc:language>
  <cp:lastModifiedBy>owner</cp:lastModifiedBy>
  <dcterms:modified xsi:type="dcterms:W3CDTF">2012-04-05T23:37:51Z</dcterms:modified>
  <cp:revision>16</cp:revision>
  <dc:subject/>
  <dc:title>Slide 1</dc:title>
</cp:coreProperties>
</file>